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BE8-C800-4BF1-BC12-52CB9890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E75-37EB-47AE-A779-8E7855D9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463-8E26-4D0B-9658-FE55E726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3B5-F90D-4BDE-BBE4-13531CE7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AE5-DBDE-4CF6-82E1-25FC7F37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115-785F-4640-B3BF-7922991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6F0-3E71-4F86-B404-E2B6F36E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737-D2BC-4EAD-9AE9-35CCD99A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02D-B45E-484F-BB3A-D9FE790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AA3-E480-414B-8A50-72BAE0C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297-D01B-4152-8B86-8033AB6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919-9A63-45EC-8CF0-002D4D7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860C-75CD-4306-8551-8132DC13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197000"/>
            <a:ext cx="84582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1 and 2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Refer to the help sheets you have been issu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5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scribe the methods you used to identify your performance strengths and weakness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205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lain why these tests were appropriate (4)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17T17:03:53Z</dcterms:modified>
  <cp:revision>21</cp:revision>
  <dc:subject/>
  <dc:title>Intermediate PE</dc:title>
</cp:coreProperties>
</file>